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4D1-F8C4-4BD8-A2EB-99514DFC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9EF-1B85-4F7B-803A-7B9232BF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565-04EA-42B4-A0A7-C5857977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8684-64B7-4998-AEE7-1D0B2F87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D1A-F635-48CA-A657-1A20321D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B5F-E568-4DB5-A855-5520B398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1C1-B7D1-4A6B-9DD2-FB6D7232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571-303D-487F-A2AE-FDAB0032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17C-9B76-43D9-A88B-8CF96261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79F1-3394-43C3-9385-A713BD3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C16-EBDF-40BF-A4D8-5E785544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53B-11C9-4C73-BFA5-DA89B5A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F2E9-CD9A-4C37-B2D4-271A0F59D7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nges BDC plan 2012-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veloping Basin Level Learning Initiatives/Documentation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asonal rice maps were publish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t up salinity monitoring stations and conducted regular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tup field experiments and demonstrations on rice and brackish water aquacul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performed seeds were distributed among the interested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ducting large, qualitative field studies to know the community involvement in management of water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the key external drivers that are influencing the re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aptive management guidelines document was finalized and practi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munications strategy of Ganges BDC was develop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ed gender mainstreaming guide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osite OLM was develo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challenges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and documentation in Ganges B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ck of funding in 2012/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munications support for capacity building of G5 personnel from CPW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uture of th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5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opportunitie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arning and documentation in Ganges BD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domain maps as a decision support tool to more effectively scale up the adoption of new technolo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external drivers of change, scenarios and their  effect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ed seed producers to be supplying seed of the improved germ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polder  governance and community-based management guid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opportunitie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arning and documentation in Ganges BD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ed strong linkages between different stakeholders (GO, NGO, Private sectors) through stakeholder plat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r questions about this initi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 plan framework for 2012-2013 but there is no target mentioned in this learning initi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tool to know the basin status but need proper regular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12:39:32Z</dcterms:created>
  <dc:creator>eleborgne</dc:creator>
  <dc:description/>
  <dc:language>en-US</dc:language>
  <cp:lastModifiedBy>Emdad</cp:lastModifiedBy>
  <dcterms:modified xsi:type="dcterms:W3CDTF">2012-08-28T09:21:34Z</dcterms:modified>
  <cp:revision>44</cp:revision>
  <dc:subject/>
  <dc:title>PowerPoint Presentation</dc:title>
</cp:coreProperties>
</file>